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DD6-3260-4BFB-A058-218069BD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270-60FE-4F16-B7EF-41F11558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0B87-78C8-4962-8962-A7B8A4D7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D5B-5B06-4B14-BE42-5DDA7E10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4BE-E6CF-40CB-8656-1C42F2AC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8275-072F-4A54-B45B-C6604343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B08-364B-4E79-BC7B-8D95C4B3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F6E-B641-45B1-AB24-CB684EAF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C29-762B-48BE-8C04-22A5FD9F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7FA7-01E3-45C0-B31A-AB23E821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E25-8310-44BE-874E-7B9785C1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747E-62EB-49D8-8C54-31974D39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77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795F-9280-4853-9D2F-6750F371A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77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932360" y="255600"/>
            <a:ext cx="3892680" cy="3533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305424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frican Walk    to School We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72360" y="5796000"/>
            <a:ext cx="250344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77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3892680" cy="3533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372360" y="5796000"/>
            <a:ext cx="250344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77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87600" cy="1441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530064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African children have to get up early so that they can get to school on time – often at about 5a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5865840" cy="43988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51640" y="6237360"/>
            <a:ext cx="14954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77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87600" cy="1441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3240000" cy="4319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451640" y="6237360"/>
            <a:ext cx="1495440" cy="433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43280" y="2781360"/>
            <a:ext cx="37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have to walk about 5 miles each way to school. Many of these children also have to walk with no sho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77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87600" cy="144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42920" y="836640"/>
            <a:ext cx="4826160" cy="3559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451640" y="6237360"/>
            <a:ext cx="1495440" cy="43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530064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lder children in poor families may be fortunate enough to own a pair of flip-fl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77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87600" cy="144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827520" cy="57610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4859280" y="285264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also have to walk a few miles each day collecting water, before and after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451640" y="6237360"/>
            <a:ext cx="14954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77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87600" cy="1441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51640" y="6237360"/>
            <a:ext cx="1495440" cy="433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9640" y="530064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ting an education is so important to poor children as it can help them get out of pover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26920" y="836640"/>
            <a:ext cx="5616720" cy="373536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77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87600" cy="144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451640" y="6237360"/>
            <a:ext cx="1495440" cy="43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9640" y="530064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d a Cow helps poor families like these to make money by producing more food on their 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971640" y="620640"/>
            <a:ext cx="5400720" cy="40514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77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87600" cy="1441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63480" y="836640"/>
            <a:ext cx="3116520" cy="46800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451640" y="6237360"/>
            <a:ext cx="1495440" cy="433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98920" y="3090960"/>
            <a:ext cx="39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money that they make buys shoes, school books and means they can send their children to school – giving them a brighter fu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77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87600" cy="1441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451640" y="6237360"/>
            <a:ext cx="1495440" cy="433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716360" y="3429000"/>
            <a:ext cx="34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e fun on your walk to school week and please think about African children as you wal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26920" y="907920"/>
            <a:ext cx="3006720" cy="450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3:13:36Z</dcterms:created>
  <dc:creator>cleverj</dc:creator>
  <dc:description/>
  <dc:language>en-US</dc:language>
  <cp:lastModifiedBy>cleverj</cp:lastModifiedBy>
  <dcterms:modified xsi:type="dcterms:W3CDTF">2011-04-15T15:17:12Z</dcterms:modified>
  <cp:revision>16</cp:revision>
  <dc:subject/>
  <dc:title>Slide 1</dc:title>
</cp:coreProperties>
</file>