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8FD-578C-4977-8FEF-9C9C3610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85B8-AB25-44FE-A641-55401711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5D10-C50A-4B10-BC27-4E8632BD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C2B-2A80-4FE1-AA99-BCF34BF2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1FC-DC64-490E-89A0-FBD94BB4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CCC-9916-4B2C-AC82-A7E52A33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37EB-F93A-472B-8637-E88DD875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D26B-441F-44B2-81F3-752864A6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22A-2BBB-44AD-B36C-78891A2B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77F5-EBF3-4700-B4FC-67044448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1DF-5CAA-4206-98CA-3DE0DEA7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47D-CB5B-4A20-966B-CAA57111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2B6A-EF3A-4968-BC7E-207DDF1DC38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2960" t="0" r="2829" b="0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volley plastic bag footballs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108000" y="6093000"/>
            <a:ext cx="6912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Now try out making your own recycled games, inspired by children in Africa!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031240" y="6040440"/>
            <a:ext cx="971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2960" t="0" r="2829" b="0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108000" y="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  <a:ea typeface="Arial"/>
              </a:rPr>
              <a:t>Find out more 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  <a:ea typeface="Arial"/>
              </a:rPr>
              <a:t>sendacow.org.uk/lessonsfrom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shuttle rela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08000" y="6093000"/>
            <a:ext cx="6912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We all waste a lot of useful materials. Think of all the plastic bottles you use. You can re-use them in your games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8031240" y="6040440"/>
            <a:ext cx="971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olding-b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108000" y="6093000"/>
            <a:ext cx="6912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102 billion plastic bags are used every year in the USA alone. Why not make a football out of some like African children do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8031240" y="6040440"/>
            <a:ext cx="971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plastic bag Football__Handmade_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08000" y="6093000"/>
            <a:ext cx="6912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You also make them from old jumpers and strips of material, like this child ha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8031240" y="6040440"/>
            <a:ext cx="971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stilt race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016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108000" y="6093000"/>
            <a:ext cx="6912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Many toys and fun things are home-made – like these stilts made out of tins and rop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8031240" y="6040440"/>
            <a:ext cx="971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yres and stick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108000" y="6093000"/>
            <a:ext cx="6912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More games from ‘waste’ materials!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These old tyres can be kept rolling for miles with a bit of skil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8031240" y="6040440"/>
            <a:ext cx="971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Shaban_carrying_water_on_head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08000" y="6093000"/>
            <a:ext cx="6912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A lot of poor children have to walk miles every day to fetch water. They are very fit and strong, try lifting one of these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8031240" y="6040440"/>
            <a:ext cx="971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200m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108000" y="6093000"/>
            <a:ext cx="6912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Many African children in poor families can’t afford shoes &amp; are lucky if they own flip flops. Try skipping bare-foot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8031240" y="6040440"/>
            <a:ext cx="971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Bikes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081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108000" y="6093000"/>
            <a:ext cx="6912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Although there are cars, many people have to cycle. This keeps them fit, but is hard work on pot-holed road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8031240" y="6040440"/>
            <a:ext cx="971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3:05:26Z</dcterms:created>
  <dc:creator>John Cleverly</dc:creator>
  <dc:description/>
  <dc:language>en-US</dc:language>
  <cp:lastModifiedBy>John Cleverly</cp:lastModifiedBy>
  <dcterms:modified xsi:type="dcterms:W3CDTF">2013-01-21T13:51:00Z</dcterms:modified>
  <cp:revision>27</cp:revision>
  <dc:subject/>
  <dc:title>Slide 1</dc:title>
</cp:coreProperties>
</file>