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6.png" ContentType="image/png"/>
  <Override PartName="/ppt/media/image30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4FE2-5E30-4576-9FC7-3DE57CF614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5AB2-AD2D-496A-8460-25AFAC7A6A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E0FD-4982-40EB-B62F-72ACAB16AA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6C5F-BC00-4011-B101-9930F27893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A884-3854-4369-8CE7-A0A72D3215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934B-689A-456C-BB45-14AB76A729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C945-0CE1-4F4A-8268-09180EAA86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1BC6-C558-499E-9CF9-1506799F72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FDA-7D44-4B6D-BF29-8D3A2857DA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B881-4DE9-4F86-9DDF-E2CF68D016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0655-E7CD-4F9C-AFFA-15392F9436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99C3-4870-45AE-9586-678D3D027A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0631-FF73-437F-97E2-7A55D5C9DD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1629-E5B7-4679-9CB2-D3F1581D61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FDA0-A5E6-422B-B80F-753DE58B55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95E6-D6EE-44EE-B1B4-97251A3C76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7CB-09D4-42EB-8AB1-DF71F37DF6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C19D-6137-4DE6-B2B5-86EE0B1846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FCFE-0A02-422F-8F4E-F927C4D73F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Tahoma"/>
              </a:rPr>
              <a:t>This Powerpoint has transition times built in to it. You may wish to adjust these, or rely on the mouse-click to advance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D575-6E31-40FE-9ABB-143483DCD2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546B-E234-42C4-867C-2F67A1B981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F72B-5031-4AD0-A3C7-3C810F0027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424-C95F-4AAC-90C9-2B443534E8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143A-0D2E-40A8-BD84-48036D2E8F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0364-F562-464B-85F9-846597731A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EDFA-B56B-4E9D-9B91-281B04D7D8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16FB-5933-4013-9856-42C4E36299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8E5-B829-4DAE-AE5A-8D2A6C9CF1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27F-A68E-4B79-AF1E-C8365AA2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7E8-F904-4CC0-8060-FF34F6C9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742-D1AF-4789-B117-27D533A6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C61-DF7F-475B-BD50-34762B1E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CE4-3643-4160-9297-23F597F6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139-05C7-4D71-9587-AF848CA4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443-8146-4866-8510-871ADAA5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E66-A62A-4DDE-A7B1-871432B2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63C-2A40-4AFD-829C-FF819599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980-006C-473A-9365-737B510B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553-40FD-4C41-A476-34F1EFB4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65F-D212-417F-B77C-4ED2D7A9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B0E2-2F70-4EC7-8FFC-5B3093A39F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6.jpeg"/><Relationship Id="rId3" Type="http://schemas.openxmlformats.org/officeDocument/2006/relationships/image" Target="../media/image3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4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6.jpeg"/><Relationship Id="rId3" Type="http://schemas.openxmlformats.org/officeDocument/2006/relationships/image" Target="../media/image2.pn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4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4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6.jpeg"/><Relationship Id="rId3" Type="http://schemas.openxmlformats.org/officeDocument/2006/relationships/image" Target="../media/image2.pn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2.pn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2.pn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2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S:\Marketing\Education\Projects\Lesson Resources\Images\KHG_morika_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\\daisy\Desktop\cleverj\Malfifi trans.gif"/>
          <p:cNvPicPr/>
          <p:nvPr/>
        </p:nvPicPr>
        <p:blipFill>
          <a:blip r:embed="rId2"/>
          <a:stretch/>
        </p:blipFill>
        <p:spPr>
          <a:xfrm>
            <a:off x="6651720" y="2514600"/>
            <a:ext cx="1577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\\daisy\Desktop\cleverj\My Docs\KHGpptpics\khgmorijastick.JPG"/>
          <p:cNvPicPr/>
          <p:nvPr/>
        </p:nvPicPr>
        <p:blipFill>
          <a:blip r:embed="rId1"/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97" name="Picture 3" descr="\\daisy\Desktop\cleverj\Film\Lesotho\images for ppt\ag_sticks_make.JPG"/>
          <p:cNvPicPr/>
          <p:nvPr/>
        </p:nvPicPr>
        <p:blipFill>
          <a:blip r:embed="rId2"/>
          <a:srcRect l="-7994" t="21977" r="0" b="0"/>
          <a:stretch/>
        </p:blipFill>
        <p:spPr>
          <a:xfrm>
            <a:off x="838080" y="6183360"/>
            <a:ext cx="8229600" cy="44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\\daisy\Desktop\cleverj\Film\Lesotho\images for ppt\what_you_need.jpg"/>
          <p:cNvPicPr/>
          <p:nvPr/>
        </p:nvPicPr>
        <p:blipFill>
          <a:blip r:embed="rId3"/>
          <a:srcRect l="0" t="0" r="0" b="23660"/>
          <a:stretch/>
        </p:blipFill>
        <p:spPr>
          <a:xfrm>
            <a:off x="152280" y="152280"/>
            <a:ext cx="35560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\\daisy\Desktop\cleverj\My Docs\KHGpptpics\khgmorijaash.JPG"/>
          <p:cNvPicPr/>
          <p:nvPr/>
        </p:nvPicPr>
        <p:blipFill>
          <a:blip r:embed="rId1"/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01" name="Picture 3" descr="\\daisy\Desktop\cleverj\Film\Lesotho\images for ppt\ag_ash_potassium.JPG"/>
          <p:cNvPicPr/>
          <p:nvPr/>
        </p:nvPicPr>
        <p:blipFill>
          <a:blip r:embed="rId2"/>
          <a:srcRect l="-6496" t="18073" r="0" b="0"/>
          <a:stretch/>
        </p:blipFill>
        <p:spPr>
          <a:xfrm>
            <a:off x="838080" y="6199200"/>
            <a:ext cx="8115480" cy="46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\\daisy\Desktop\cleverj\Film\Lesotho\images for ppt\what_you_need.jpg"/>
          <p:cNvPicPr/>
          <p:nvPr/>
        </p:nvPicPr>
        <p:blipFill>
          <a:blip r:embed="rId3"/>
          <a:srcRect l="0" t="0" r="0" b="23660"/>
          <a:stretch/>
        </p:blipFill>
        <p:spPr>
          <a:xfrm>
            <a:off x="152280" y="152280"/>
            <a:ext cx="355608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\\daisy\Desktop\cleverj\My Docs\KHGpptpics\khgmorijacans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05" name="Picture 3" descr="\\daisy\Desktop\cleverj\Film\Lesotho\images for ppt\what_you_need.jpg"/>
          <p:cNvPicPr/>
          <p:nvPr/>
        </p:nvPicPr>
        <p:blipFill>
          <a:blip r:embed="rId2"/>
          <a:srcRect l="0" t="0" r="0" b="23660"/>
          <a:stretch/>
        </p:blipFill>
        <p:spPr>
          <a:xfrm>
            <a:off x="152280" y="152280"/>
            <a:ext cx="355608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\\daisy\Desktop\cleverj\Film\Lesotho\images for ppt\ag_rusty_tins.JPG"/>
          <p:cNvPicPr/>
          <p:nvPr/>
        </p:nvPicPr>
        <p:blipFill>
          <a:blip r:embed="rId3"/>
          <a:srcRect l="-61994" t="0" r="0" b="0"/>
          <a:stretch/>
        </p:blipFill>
        <p:spPr>
          <a:xfrm>
            <a:off x="838080" y="6083280"/>
            <a:ext cx="8229600" cy="571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\\daisy\Desktop\cleverj\Film\Lesotho\KHGpptpics\khgmorijasoil1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09" name="Picture 3" descr="\\daisy\Desktop\cleverj\Film\Lesotho\images for ppt\ag_soil_grow.JPG"/>
          <p:cNvPicPr/>
          <p:nvPr/>
        </p:nvPicPr>
        <p:blipFill>
          <a:blip r:embed="rId2"/>
          <a:srcRect l="-6827" t="0" r="0" b="0"/>
          <a:stretch/>
        </p:blipFill>
        <p:spPr>
          <a:xfrm>
            <a:off x="838080" y="6095880"/>
            <a:ext cx="814068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\\daisy\Desktop\cleverj\Film\Lesotho\images for ppt\what_you_need.jpg"/>
          <p:cNvPicPr/>
          <p:nvPr/>
        </p:nvPicPr>
        <p:blipFill>
          <a:blip r:embed="rId3"/>
          <a:stretch/>
        </p:blipFill>
        <p:spPr>
          <a:xfrm>
            <a:off x="152280" y="152280"/>
            <a:ext cx="3556080" cy="69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\\daisy\Desktop\cleverj\My Docs\KHGpptpics\khgmorijameasure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3" name="Picture 3" descr="\\daisy\Desktop\cleverj\Film\Lesotho\images for ppt\preparing_the_area.jpg"/>
          <p:cNvPicPr/>
          <p:nvPr/>
        </p:nvPicPr>
        <p:blipFill>
          <a:blip r:embed="rId2"/>
          <a:stretch/>
        </p:blipFill>
        <p:spPr>
          <a:xfrm>
            <a:off x="152280" y="152280"/>
            <a:ext cx="4064040" cy="69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\\daisy\Desktop\cleverj\Film\Lesotho\images for ppt\ag_measure_out.JPG"/>
          <p:cNvPicPr/>
          <p:nvPr/>
        </p:nvPicPr>
        <p:blipFill>
          <a:blip r:embed="rId3"/>
          <a:srcRect l="6285" t="6423" r="0" b="0"/>
          <a:stretch/>
        </p:blipFill>
        <p:spPr>
          <a:xfrm>
            <a:off x="660240" y="6132600"/>
            <a:ext cx="833148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\\daisy\Desktop\cleverj\My Docs\KHGpptpics\khgmorijadigging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7" name="Picture 3" descr="\\daisy\Desktop\cleverj\Film\Lesotho\images for ppt\preparing_the_area.jpg"/>
          <p:cNvPicPr/>
          <p:nvPr/>
        </p:nvPicPr>
        <p:blipFill>
          <a:blip r:embed="rId2"/>
          <a:stretch/>
        </p:blipFill>
        <p:spPr>
          <a:xfrm>
            <a:off x="152280" y="152280"/>
            <a:ext cx="4064040" cy="69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\\daisy\Desktop\cleverj\Malfifi trans.gif"/>
          <p:cNvPicPr/>
          <p:nvPr/>
        </p:nvPicPr>
        <p:blipFill>
          <a:blip r:embed="rId3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\\daisy\Desktop\cleverj\Film\Lesotho\images for ppt\ag_cleared_grass.JPG"/>
          <p:cNvPicPr/>
          <p:nvPr/>
        </p:nvPicPr>
        <p:blipFill>
          <a:blip r:embed="rId4"/>
          <a:srcRect l="7431" t="0" r="0" b="0"/>
          <a:stretch/>
        </p:blipFill>
        <p:spPr>
          <a:xfrm>
            <a:off x="762120" y="6095880"/>
            <a:ext cx="822960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\\daisy\Desktop\cleverj\My Docs\KHGpptpics\khgmorijalayingrocks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21" name="Picture 3" descr="\\daisy\Desktop\cleverj\Film\Lesotho\images for ppt\starting_to_build.jpg"/>
          <p:cNvPicPr/>
          <p:nvPr/>
        </p:nvPicPr>
        <p:blipFill>
          <a:blip r:embed="rId2"/>
          <a:stretch/>
        </p:blipFill>
        <p:spPr>
          <a:xfrm>
            <a:off x="152280" y="152280"/>
            <a:ext cx="3810240" cy="698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\\daisy\Desktop\cleverj\Film\Lesotho\images for ppt\ag_making_circle.JPG"/>
          <p:cNvPicPr/>
          <p:nvPr/>
        </p:nvPicPr>
        <p:blipFill>
          <a:blip r:embed="rId3"/>
          <a:srcRect l="19878" t="27078" r="0" b="0"/>
          <a:stretch/>
        </p:blipFill>
        <p:spPr>
          <a:xfrm>
            <a:off x="851040" y="6237360"/>
            <a:ext cx="8140680" cy="41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\\daisy\Desktop\cleverj\My Docs\KHGpptpics\khgmorijameasuring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25" name="Picture 3" descr="\\daisy\Desktop\cleverj\Film\Lesotho\images for ppt\ag_entrance_basket.JPG"/>
          <p:cNvPicPr/>
          <p:nvPr/>
        </p:nvPicPr>
        <p:blipFill>
          <a:blip r:embed="rId2"/>
          <a:srcRect l="20498" t="18955" r="0" b="0"/>
          <a:stretch/>
        </p:blipFill>
        <p:spPr>
          <a:xfrm>
            <a:off x="914400" y="6199200"/>
            <a:ext cx="8077320" cy="463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\daisy\Desktop\cleverj\Film\Lesotho\images for ppt\starting_to_build.jpg"/>
          <p:cNvPicPr/>
          <p:nvPr/>
        </p:nvPicPr>
        <p:blipFill>
          <a:blip r:embed="rId3"/>
          <a:stretch/>
        </p:blipFill>
        <p:spPr>
          <a:xfrm>
            <a:off x="152280" y="152280"/>
            <a:ext cx="3810240" cy="698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aisy\Desktop\cleverj\My Docs\KHGpptpics\khgmorijalayingcans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29" name="Picture 3" descr="\\daisy\Desktop\cleverj\Film\Lesotho\images for ppt\starting_to_build.jpg"/>
          <p:cNvPicPr/>
          <p:nvPr/>
        </p:nvPicPr>
        <p:blipFill>
          <a:blip r:embed="rId2"/>
          <a:stretch/>
        </p:blipFill>
        <p:spPr>
          <a:xfrm>
            <a:off x="152280" y="152280"/>
            <a:ext cx="3810240" cy="69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\\daisy\Desktop\cleverj\Malfifi trans.gif"/>
          <p:cNvPicPr/>
          <p:nvPr/>
        </p:nvPicPr>
        <p:blipFill>
          <a:blip r:embed="rId3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\\daisy\Desktop\cleverj\Film\Lesotho\images for ppt\ag_basket_tins.JPG"/>
          <p:cNvPicPr/>
          <p:nvPr/>
        </p:nvPicPr>
        <p:blipFill>
          <a:blip r:embed="rId4"/>
          <a:srcRect l="9144" t="0" r="0" b="0"/>
          <a:stretch/>
        </p:blipFill>
        <p:spPr>
          <a:xfrm>
            <a:off x="838080" y="6058080"/>
            <a:ext cx="8077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\\daisy\Desktop\cleverj\My Docs\KHGpptpics\khgmorijalayingsoil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33" name="Picture 3" descr="\\daisy\Desktop\cleverj\Film\Lesotho\images for ppt\ag_layer_soil.JPG"/>
          <p:cNvPicPr/>
          <p:nvPr/>
        </p:nvPicPr>
        <p:blipFill>
          <a:blip r:embed="rId2"/>
          <a:srcRect l="18999" t="18955" r="0" b="0"/>
          <a:stretch/>
        </p:blipFill>
        <p:spPr>
          <a:xfrm>
            <a:off x="838080" y="62118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\\daisy\Desktop\cleverj\Film\Lesotho\images for ppt\starting_to_build.jpg"/>
          <p:cNvPicPr/>
          <p:nvPr/>
        </p:nvPicPr>
        <p:blipFill>
          <a:blip r:embed="rId3"/>
          <a:stretch/>
        </p:blipFill>
        <p:spPr>
          <a:xfrm>
            <a:off x="152280" y="152280"/>
            <a:ext cx="3810240" cy="69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\\daisy\Desktop\cleverj\DVD\Lesotho\images for ppt\lesotho_map1.JPG"/>
          <p:cNvPicPr/>
          <p:nvPr/>
        </p:nvPicPr>
        <p:blipFill>
          <a:blip r:embed="rId1">
            <a:lum bright="6000"/>
          </a:blip>
          <a:srcRect l="11767" t="3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\\daisy\Desktop\cleverj\DVD\Lesotho\images for ppt\morija_lesotho.JPG"/>
          <p:cNvPicPr/>
          <p:nvPr/>
        </p:nvPicPr>
        <p:blipFill>
          <a:blip r:embed="rId2">
            <a:lum bright="6000"/>
          </a:blip>
          <a:srcRect l="0" t="0" r="6395" b="0"/>
          <a:stretch/>
        </p:blipFill>
        <p:spPr>
          <a:xfrm>
            <a:off x="228600" y="2057400"/>
            <a:ext cx="2971800" cy="17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\\daisy\Desktop\cleverj\DVD\Lesotho\images for ppt\lesotho_map_close1.jpg"/>
          <p:cNvPicPr/>
          <p:nvPr/>
        </p:nvPicPr>
        <p:blipFill>
          <a:blip r:embed="rId3"/>
          <a:srcRect l="5927" t="0" r="518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\\daisy\Desktop\cleverj\My Docs\KHGpptpics\khgmorijalayingstraw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37" name="Picture 3" descr="\\daisy\Desktop\cleverj\Film\Lesotho\images for ppt\ag_layer_straw.JPG"/>
          <p:cNvPicPr/>
          <p:nvPr/>
        </p:nvPicPr>
        <p:blipFill>
          <a:blip r:embed="rId2"/>
          <a:srcRect l="19198" t="21788" r="0" b="0"/>
          <a:stretch/>
        </p:blipFill>
        <p:spPr>
          <a:xfrm>
            <a:off x="838080" y="6197760"/>
            <a:ext cx="8229600" cy="447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\\daisy\Desktop\cleverj\Film\Lesotho\images for ppt\starting_to_build.jpg"/>
          <p:cNvPicPr/>
          <p:nvPr/>
        </p:nvPicPr>
        <p:blipFill>
          <a:blip r:embed="rId3"/>
          <a:stretch/>
        </p:blipFill>
        <p:spPr>
          <a:xfrm>
            <a:off x="152280" y="152280"/>
            <a:ext cx="3810240" cy="69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\\daisy\Desktop\cleverj\Film\Lesotho\KHGpptpics\khgmorijaend3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41" name="Picture 3" descr="\\daisy\Desktop\cleverj\Film\Lesotho\images for ppt\starting_to_build.jpg"/>
          <p:cNvPicPr/>
          <p:nvPr/>
        </p:nvPicPr>
        <p:blipFill>
          <a:blip r:embed="rId2"/>
          <a:stretch/>
        </p:blipFill>
        <p:spPr>
          <a:xfrm>
            <a:off x="152280" y="152280"/>
            <a:ext cx="3810240" cy="698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\\daisy\Desktop\cleverj\Malfifi trans.gif"/>
          <p:cNvPicPr/>
          <p:nvPr/>
        </p:nvPicPr>
        <p:blipFill>
          <a:blip r:embed="rId3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\\daisy\Desktop\cleverj\Film\Lesotho\images for ppt\ag_more_layers.JPG"/>
          <p:cNvPicPr/>
          <p:nvPr/>
        </p:nvPicPr>
        <p:blipFill>
          <a:blip r:embed="rId4"/>
          <a:srcRect l="8573" t="10658" r="0" b="8012"/>
          <a:stretch/>
        </p:blipFill>
        <p:spPr>
          <a:xfrm>
            <a:off x="838080" y="6019920"/>
            <a:ext cx="812808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\\daisy\Desktop\cleverj\My Docs\KHGpptpics\khgmorijalayingstraw1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45" name="Picture 3" descr="\\daisy\Desktop\cleverj\Film\Lesotho\images for ppt\planting_the_seeds.jpg"/>
          <p:cNvPicPr/>
          <p:nvPr/>
        </p:nvPicPr>
        <p:blipFill>
          <a:blip r:embed="rId2"/>
          <a:stretch/>
        </p:blipFill>
        <p:spPr>
          <a:xfrm>
            <a:off x="228600" y="152280"/>
            <a:ext cx="4064040" cy="6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\\daisy\Desktop\cleverj\Film\Lesotho\images for ppt\ag_plant_seeds.JPG"/>
          <p:cNvPicPr/>
          <p:nvPr/>
        </p:nvPicPr>
        <p:blipFill>
          <a:blip r:embed="rId3"/>
          <a:srcRect l="6285" t="6349" r="0" b="0"/>
          <a:stretch/>
        </p:blipFill>
        <p:spPr>
          <a:xfrm>
            <a:off x="736560" y="5965920"/>
            <a:ext cx="8331120" cy="892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\\daisy\Desktop\cleverj\My Docs\KHGpptpics\khgmorijaend1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grpSp>
        <p:nvGrpSpPr>
          <p:cNvPr id="149" name="Group 3"/>
          <p:cNvGrpSpPr/>
          <p:nvPr/>
        </p:nvGrpSpPr>
        <p:grpSpPr>
          <a:xfrm>
            <a:off x="3581280" y="1371600"/>
            <a:ext cx="1752840" cy="2286000"/>
            <a:chOff x="3581280" y="1371600"/>
            <a:chExt cx="1752840" cy="2286000"/>
          </a:xfrm>
        </p:grpSpPr>
        <p:sp>
          <p:nvSpPr>
            <p:cNvPr id="150" name="Oval 4"/>
            <p:cNvSpPr/>
            <p:nvPr/>
          </p:nvSpPr>
          <p:spPr>
            <a:xfrm>
              <a:off x="3886200" y="1371600"/>
              <a:ext cx="1066680" cy="761760"/>
            </a:xfrm>
            <a:prstGeom prst="ellipse">
              <a:avLst/>
            </a:prstGeom>
            <a:noFill/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 flipH="1">
              <a:off x="3581280" y="2057400"/>
              <a:ext cx="533520" cy="1600200"/>
            </a:xfrm>
            <a:prstGeom prst="line">
              <a:avLst/>
            </a:prstGeom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>
              <a:off x="3581280" y="3632040"/>
              <a:ext cx="1752840" cy="0"/>
            </a:xfrm>
            <a:prstGeom prst="line">
              <a:avLst/>
            </a:prstGeom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 flipH="1" flipV="1">
              <a:off x="4724280" y="2057040"/>
              <a:ext cx="609840" cy="1600200"/>
            </a:xfrm>
            <a:prstGeom prst="line">
              <a:avLst/>
            </a:prstGeom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Picture 8" descr="\\daisy\Desktop\cleverj\Film\Lesotho\images for ppt\the_keyhole.jpg"/>
          <p:cNvPicPr/>
          <p:nvPr/>
        </p:nvPicPr>
        <p:blipFill>
          <a:blip r:embed="rId2"/>
          <a:stretch/>
        </p:blipFill>
        <p:spPr>
          <a:xfrm>
            <a:off x="228600" y="152280"/>
            <a:ext cx="2793960" cy="698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\\daisy\Desktop\cleverj\Film\Lesotho\images for ppt\ag_called_keyhole.JPG"/>
          <p:cNvPicPr/>
          <p:nvPr/>
        </p:nvPicPr>
        <p:blipFill>
          <a:blip r:embed="rId3"/>
          <a:srcRect l="19758" t="19207" r="0" b="0"/>
          <a:stretch/>
        </p:blipFill>
        <p:spPr>
          <a:xfrm>
            <a:off x="838080" y="6191280"/>
            <a:ext cx="8134560" cy="460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\\daisy\Desktop\cleverj\My Docs\KHGpptpics\khgmorijaend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58" name="Picture 3" descr="\\daisy\Desktop\cleverj\Film\Lesotho\images for ppt\make_a_keyhole_garden.jpg"/>
          <p:cNvPicPr/>
          <p:nvPr/>
        </p:nvPicPr>
        <p:blipFill>
          <a:blip r:embed="rId2"/>
          <a:srcRect l="3430" t="0" r="0" b="0"/>
          <a:stretch/>
        </p:blipFill>
        <p:spPr>
          <a:xfrm>
            <a:off x="228600" y="216000"/>
            <a:ext cx="858528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\\daisy\Desktop\cleverj\Malfifi trans.gif"/>
          <p:cNvPicPr/>
          <p:nvPr/>
        </p:nvPicPr>
        <p:blipFill>
          <a:blip r:embed="rId3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\\daisy\Desktop\cleverj\Film\Lesotho\images for ppt\ag_proud_vegetables.JPG"/>
          <p:cNvPicPr/>
          <p:nvPr/>
        </p:nvPicPr>
        <p:blipFill>
          <a:blip r:embed="rId4"/>
          <a:srcRect l="7714" t="12018" r="0" b="0"/>
          <a:stretch/>
        </p:blipFill>
        <p:spPr>
          <a:xfrm>
            <a:off x="838080" y="6006960"/>
            <a:ext cx="820440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\\daisy\Desktop\cleverj\DVD\Lesotho\images for ppt\khg_at_ho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\\daisy\Desktop\cleverj\Malfifi trans.gif"/>
          <p:cNvPicPr/>
          <p:nvPr/>
        </p:nvPicPr>
        <p:blipFill>
          <a:blip r:embed="rId2"/>
          <a:stretch/>
        </p:blipFill>
        <p:spPr>
          <a:xfrm>
            <a:off x="7772400" y="2743200"/>
            <a:ext cx="598320" cy="838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\\daisy\Desktop\cleverj\DVD\Lesotho\images for ppt\at_home.jpg"/>
          <p:cNvPicPr/>
          <p:nvPr/>
        </p:nvPicPr>
        <p:blipFill>
          <a:blip r:embed="rId3"/>
          <a:srcRect l="-22281" t="0" r="38001" b="0"/>
          <a:stretch/>
        </p:blipFill>
        <p:spPr>
          <a:xfrm>
            <a:off x="0" y="2514600"/>
            <a:ext cx="7493040" cy="95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\\daisy\Desktop\cleverj\DVD\Lesotho\images for ppt\mini_khg.jpg"/>
          <p:cNvPicPr/>
          <p:nvPr/>
        </p:nvPicPr>
        <p:blipFill>
          <a:blip r:embed="rId4"/>
          <a:stretch/>
        </p:blipFill>
        <p:spPr>
          <a:xfrm>
            <a:off x="3327480" y="4419720"/>
            <a:ext cx="2539800" cy="19047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65" name="Picture 6" descr="\\daisy\Desktop\cleverj\DVD\Lesotho\images for ppt\mini_t_khg.JPG"/>
          <p:cNvPicPr/>
          <p:nvPr/>
        </p:nvPicPr>
        <p:blipFill>
          <a:blip r:embed="rId5"/>
          <a:stretch/>
        </p:blipFill>
        <p:spPr>
          <a:xfrm>
            <a:off x="457200" y="4419720"/>
            <a:ext cx="2514600" cy="18856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66" name="Picture 7" descr="\\daisy\Desktop\cleverj\DVD\Lesotho\images for ppt\mini_eat.jpg"/>
          <p:cNvPicPr/>
          <p:nvPr/>
        </p:nvPicPr>
        <p:blipFill>
          <a:blip r:embed="rId6"/>
          <a:stretch/>
        </p:blipFill>
        <p:spPr>
          <a:xfrm>
            <a:off x="6248520" y="4419720"/>
            <a:ext cx="2539800" cy="19047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daisy\Desktop\cleverj\DVD\Lesotho\images for ppt\can_you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\\daisy\Desktop\cleverj\DVD\Lesotho\images for ppt\question.JPG"/>
          <p:cNvPicPr/>
          <p:nvPr/>
        </p:nvPicPr>
        <p:blipFill>
          <a:blip r:embed="rId2"/>
          <a:srcRect l="21745" t="-2118" r="21745" b="0"/>
          <a:stretch/>
        </p:blipFill>
        <p:spPr>
          <a:xfrm>
            <a:off x="3886200" y="3505320"/>
            <a:ext cx="1981080" cy="3352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\\daisy\Desktop\cleverj\Malfifi trans.gif"/>
          <p:cNvPicPr/>
          <p:nvPr/>
        </p:nvPicPr>
        <p:blipFill>
          <a:blip r:embed="rId3"/>
          <a:stretch/>
        </p:blipFill>
        <p:spPr>
          <a:xfrm>
            <a:off x="1295280" y="3809880"/>
            <a:ext cx="20113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\\daisy\Desktop\cleverj\DVD\Lesotho\images for ppt\the_end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\\daisy\Desktop\cleverj\DVD\Lesotho\images for ppt\the_end_text.JPG"/>
          <p:cNvPicPr/>
          <p:nvPr/>
        </p:nvPicPr>
        <p:blipFill>
          <a:blip r:embed="rId2"/>
          <a:stretch/>
        </p:blipFill>
        <p:spPr>
          <a:xfrm>
            <a:off x="6858000" y="1981080"/>
            <a:ext cx="1676520" cy="132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\\daisy\Desktop\cleverj\Malfifi trans.gif"/>
          <p:cNvPicPr/>
          <p:nvPr/>
        </p:nvPicPr>
        <p:blipFill>
          <a:blip r:embed="rId3"/>
          <a:stretch/>
        </p:blipFill>
        <p:spPr>
          <a:xfrm>
            <a:off x="6324480" y="3124080"/>
            <a:ext cx="184968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\\daisy\Desktop\cleverj\SAC_Logo_white_tx.gif"/>
          <p:cNvPicPr/>
          <p:nvPr/>
        </p:nvPicPr>
        <p:blipFill>
          <a:blip r:embed="rId4"/>
          <a:stretch/>
        </p:blipFill>
        <p:spPr>
          <a:xfrm>
            <a:off x="7315200" y="228600"/>
            <a:ext cx="152388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\\daisy\Desktop\cleverj\DVD\Lesotho\images for ppt\growing_food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"/>
          <p:cNvGrpSpPr/>
          <p:nvPr/>
        </p:nvGrpSpPr>
        <p:grpSpPr>
          <a:xfrm>
            <a:off x="2705040" y="2260440"/>
            <a:ext cx="2971800" cy="3733920"/>
            <a:chOff x="2705040" y="2260440"/>
            <a:chExt cx="2971800" cy="3733920"/>
          </a:xfrm>
        </p:grpSpPr>
        <p:pic>
          <p:nvPicPr>
            <p:cNvPr id="55" name="Picture 4" descr="\\daisy\Desktop\cleverj\DVD\Lesotho\images for ppt\lesotho_soil.JPG"/>
            <p:cNvPicPr/>
            <p:nvPr/>
          </p:nvPicPr>
          <p:blipFill>
            <a:blip r:embed="rId2"/>
            <a:srcRect l="12031" t="0" r="1349" b="13540"/>
            <a:stretch/>
          </p:blipFill>
          <p:spPr>
            <a:xfrm>
              <a:off x="2857680" y="3879720"/>
              <a:ext cx="2819160" cy="2114640"/>
            </a:xfrm>
            <a:prstGeom prst="rect">
              <a:avLst/>
            </a:prstGeom>
            <a:ln w="63360">
              <a:solidFill>
                <a:srgbClr val="ffffff"/>
              </a:solidFill>
              <a:miter/>
            </a:ln>
          </p:spPr>
        </p:pic>
        <p:pic>
          <p:nvPicPr>
            <p:cNvPr id="56" name="Picture 5" descr="\\daisy\Desktop\cleverj\DVD\Lesotho\images for ppt\exposed.JPG"/>
            <p:cNvPicPr/>
            <p:nvPr/>
          </p:nvPicPr>
          <p:blipFill>
            <a:blip r:embed="rId3"/>
            <a:srcRect l="0" t="0" r="24001" b="4167"/>
            <a:stretch/>
          </p:blipFill>
          <p:spPr>
            <a:xfrm>
              <a:off x="2705040" y="2260440"/>
              <a:ext cx="2781360" cy="116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6"/>
          <p:cNvGrpSpPr/>
          <p:nvPr/>
        </p:nvGrpSpPr>
        <p:grpSpPr>
          <a:xfrm>
            <a:off x="419040" y="2271600"/>
            <a:ext cx="2247840" cy="3799080"/>
            <a:chOff x="419040" y="2271600"/>
            <a:chExt cx="2247840" cy="3799080"/>
          </a:xfrm>
        </p:grpSpPr>
        <p:pic>
          <p:nvPicPr>
            <p:cNvPr id="58" name="Picture 7" descr="\\daisy\Desktop\cleverj\DVD\Lesotho\images for ppt\lesotho_soil1.JPG"/>
            <p:cNvPicPr/>
            <p:nvPr/>
          </p:nvPicPr>
          <p:blipFill>
            <a:blip r:embed="rId4"/>
            <a:srcRect l="18534" t="0" r="0" b="0"/>
            <a:stretch/>
          </p:blipFill>
          <p:spPr>
            <a:xfrm>
              <a:off x="609480" y="3733920"/>
              <a:ext cx="1781280" cy="2336760"/>
            </a:xfrm>
            <a:prstGeom prst="rect">
              <a:avLst/>
            </a:prstGeom>
            <a:ln w="63360">
              <a:solidFill>
                <a:srgbClr val="ffffff"/>
              </a:solidFill>
              <a:miter/>
            </a:ln>
          </p:spPr>
        </p:pic>
        <p:pic>
          <p:nvPicPr>
            <p:cNvPr id="59" name="Picture 8" descr="\\daisy\Desktop\cleverj\DVD\Lesotho\images for ppt\dry.JPG"/>
            <p:cNvPicPr/>
            <p:nvPr/>
          </p:nvPicPr>
          <p:blipFill>
            <a:blip r:embed="rId5"/>
            <a:srcRect l="0" t="0" r="38004" b="0"/>
            <a:stretch/>
          </p:blipFill>
          <p:spPr>
            <a:xfrm>
              <a:off x="419040" y="2271600"/>
              <a:ext cx="224784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9"/>
          <p:cNvGrpSpPr/>
          <p:nvPr/>
        </p:nvGrpSpPr>
        <p:grpSpPr>
          <a:xfrm>
            <a:off x="5423040" y="2252520"/>
            <a:ext cx="3644640" cy="3741480"/>
            <a:chOff x="5423040" y="2252520"/>
            <a:chExt cx="3644640" cy="3741480"/>
          </a:xfrm>
        </p:grpSpPr>
        <p:pic>
          <p:nvPicPr>
            <p:cNvPr id="61" name="Picture 10" descr="\\daisy\Desktop\cleverj\DVD\Lesotho\images for ppt\lesotho_soil2.JPG"/>
            <p:cNvPicPr/>
            <p:nvPr/>
          </p:nvPicPr>
          <p:blipFill>
            <a:blip r:embed="rId6"/>
            <a:stretch/>
          </p:blipFill>
          <p:spPr>
            <a:xfrm>
              <a:off x="6045120" y="3877920"/>
              <a:ext cx="2814840" cy="2116080"/>
            </a:xfrm>
            <a:prstGeom prst="rect">
              <a:avLst/>
            </a:prstGeom>
            <a:ln w="63360">
              <a:solidFill>
                <a:srgbClr val="ffffff"/>
              </a:solidFill>
              <a:miter/>
            </a:ln>
          </p:spPr>
        </p:pic>
        <p:pic>
          <p:nvPicPr>
            <p:cNvPr id="62" name="Picture 11" descr="\\daisy\Desktop\cleverj\DVD\Lesotho\images for ppt\rocky_soils.JPG"/>
            <p:cNvPicPr/>
            <p:nvPr/>
          </p:nvPicPr>
          <p:blipFill>
            <a:blip r:embed="rId7"/>
            <a:stretch/>
          </p:blipFill>
          <p:spPr>
            <a:xfrm>
              <a:off x="5423040" y="2252520"/>
              <a:ext cx="3644640" cy="121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2" descr="\\daisy\Desktop\cleverj\Malfifi trans.gif"/>
          <p:cNvPicPr/>
          <p:nvPr/>
        </p:nvPicPr>
        <p:blipFill>
          <a:blip r:embed="rId8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\\daisy\Desktop\cleverj\DVD\Lesotho\images for ppt\so_growing.jpg"/>
          <p:cNvPicPr/>
          <p:nvPr/>
        </p:nvPicPr>
        <p:blipFill>
          <a:blip r:embed="rId9"/>
          <a:stretch/>
        </p:blipFill>
        <p:spPr>
          <a:xfrm>
            <a:off x="1031760" y="6197760"/>
            <a:ext cx="8086680" cy="51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\\daisy\Desktop\cleverj\DVD\Lesotho\images for ppt\the_keyhol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\\daisy\Desktop\cleverj\DVD\Lesotho\images for ppt\schoolchildren_make.JPG"/>
          <p:cNvPicPr/>
          <p:nvPr/>
        </p:nvPicPr>
        <p:blipFill>
          <a:blip r:embed="rId2"/>
          <a:srcRect l="4926" t="18981" r="0" b="20273"/>
          <a:stretch/>
        </p:blipFill>
        <p:spPr>
          <a:xfrm>
            <a:off x="685800" y="6172200"/>
            <a:ext cx="84582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\\daisy\Desktop\cleverj\Malfifi trans.gif"/>
          <p:cNvPicPr/>
          <p:nvPr/>
        </p:nvPicPr>
        <p:blipFill>
          <a:blip r:embed="rId3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\\daisy\Desktop\cleverj\DVD\Lesotho\images for ppt\large_keyhole.jpg"/>
          <p:cNvPicPr/>
          <p:nvPr/>
        </p:nvPicPr>
        <p:blipFill>
          <a:blip r:embed="rId4"/>
          <a:stretch/>
        </p:blipFill>
        <p:spPr>
          <a:xfrm>
            <a:off x="4191120" y="2452680"/>
            <a:ext cx="4647960" cy="34909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69" name="Picture 6" descr="\\daisy\Desktop\cleverj\DVD\Lesotho\images for ppt\they.JPG"/>
          <p:cNvPicPr/>
          <p:nvPr/>
        </p:nvPicPr>
        <p:blipFill>
          <a:blip r:embed="rId5"/>
          <a:srcRect l="0" t="0" r="60002" b="46003"/>
          <a:stretch/>
        </p:blipFill>
        <p:spPr>
          <a:xfrm>
            <a:off x="76320" y="2514600"/>
            <a:ext cx="152388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\\daisy\Desktop\cleverj\DVD\Lesotho\images for ppt\KHG_list.JPG"/>
          <p:cNvPicPr/>
          <p:nvPr/>
        </p:nvPicPr>
        <p:blipFill>
          <a:blip r:embed="rId6"/>
          <a:srcRect l="0" t="21431" r="1984" b="23812"/>
          <a:stretch/>
        </p:blipFill>
        <p:spPr>
          <a:xfrm>
            <a:off x="291960" y="3733920"/>
            <a:ext cx="3137040" cy="17524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5867280" y="3022560"/>
            <a:ext cx="1752840" cy="2286000"/>
            <a:chOff x="5867280" y="3022560"/>
            <a:chExt cx="1752840" cy="2286000"/>
          </a:xfrm>
        </p:grpSpPr>
        <p:sp>
          <p:nvSpPr>
            <p:cNvPr id="72" name="Oval 9"/>
            <p:cNvSpPr/>
            <p:nvPr/>
          </p:nvSpPr>
          <p:spPr>
            <a:xfrm>
              <a:off x="6172200" y="3022560"/>
              <a:ext cx="1066680" cy="761760"/>
            </a:xfrm>
            <a:prstGeom prst="ellipse">
              <a:avLst/>
            </a:prstGeom>
            <a:noFill/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 flipH="1">
              <a:off x="5867280" y="3708360"/>
              <a:ext cx="533520" cy="1600200"/>
            </a:xfrm>
            <a:prstGeom prst="line">
              <a:avLst/>
            </a:prstGeom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1"/>
            <p:cNvSpPr/>
            <p:nvPr/>
          </p:nvSpPr>
          <p:spPr>
            <a:xfrm>
              <a:off x="5867280" y="5283000"/>
              <a:ext cx="1752840" cy="0"/>
            </a:xfrm>
            <a:prstGeom prst="line">
              <a:avLst/>
            </a:prstGeom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2"/>
            <p:cNvSpPr/>
            <p:nvPr/>
          </p:nvSpPr>
          <p:spPr>
            <a:xfrm flipH="1" flipV="1">
              <a:off x="7010280" y="3708000"/>
              <a:ext cx="609840" cy="1600200"/>
            </a:xfrm>
            <a:prstGeom prst="line">
              <a:avLst/>
            </a:prstGeom>
            <a:ln w="57240">
              <a:solidFill>
                <a:srgbClr val="ffc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\\daisy\Desktop\cleverj\Malfifi trans.gif"/>
          <p:cNvPicPr/>
          <p:nvPr/>
        </p:nvPicPr>
        <p:blipFill>
          <a:blip r:embed="rId1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\\daisy\Desktop\cleverj\DVD\Lesotho\images for ppt\morija_primary_school.JPG"/>
          <p:cNvPicPr/>
          <p:nvPr/>
        </p:nvPicPr>
        <p:blipFill>
          <a:blip r:embed="rId2"/>
          <a:srcRect l="0" t="23998" r="41715" b="12018"/>
          <a:stretch/>
        </p:blipFill>
        <p:spPr>
          <a:xfrm>
            <a:off x="76320" y="139680"/>
            <a:ext cx="5181480" cy="60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\\daisy\Desktop\cleverj\DVD\Lesotho\Karabo_pics\Lesotho_Karabo_school_view.JPG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28600" y="2579760"/>
            <a:ext cx="8686800" cy="13827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79" name="Picture 5" descr="\\daisy\Desktop\cleverj\DVD\Lesotho\images for ppt\chilren_here.jpg"/>
          <p:cNvPicPr/>
          <p:nvPr/>
        </p:nvPicPr>
        <p:blipFill>
          <a:blip r:embed="rId4"/>
          <a:srcRect l="-8711" t="0" r="16287" b="44029"/>
          <a:stretch/>
        </p:blipFill>
        <p:spPr>
          <a:xfrm>
            <a:off x="762120" y="6146640"/>
            <a:ext cx="82166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\\daisy\Desktop\cleverj\My Docs\KHGpptpics\khgmorijaschool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00120" y="954000"/>
            <a:ext cx="6348600" cy="47610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1" name="Picture 3" descr="\\daisy\Desktop\cleverj\Film\Lesotho\images for ppt\gardening_team.jpg"/>
          <p:cNvPicPr/>
          <p:nvPr/>
        </p:nvPicPr>
        <p:blipFill>
          <a:blip r:embed="rId2"/>
          <a:stretch/>
        </p:blipFill>
        <p:spPr>
          <a:xfrm>
            <a:off x="101520" y="101520"/>
            <a:ext cx="4318200" cy="571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\\daisy\Desktop\cleverj\Malfifi trans.gif"/>
          <p:cNvPicPr/>
          <p:nvPr/>
        </p:nvPicPr>
        <p:blipFill>
          <a:blip r:embed="rId3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\\daisy\Desktop\cleverj\Film\Lesotho\images for ppt\ag_class_.jpg"/>
          <p:cNvPicPr/>
          <p:nvPr/>
        </p:nvPicPr>
        <p:blipFill>
          <a:blip r:embed="rId4"/>
          <a:srcRect l="6572" t="6675" r="0" b="0"/>
          <a:stretch/>
        </p:blipFill>
        <p:spPr>
          <a:xfrm>
            <a:off x="685800" y="6172200"/>
            <a:ext cx="83059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\\daisy\Desktop\cleverj\My Docs\KHGpptpics\khgmorijastones.JPG"/>
          <p:cNvPicPr/>
          <p:nvPr/>
        </p:nvPicPr>
        <p:blipFill>
          <a:blip r:embed="rId1"/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5" name="Picture 3" descr="\\daisy\Desktop\cleverj\Film\Lesotho\images for ppt\what_you_need.jpg"/>
          <p:cNvPicPr/>
          <p:nvPr/>
        </p:nvPicPr>
        <p:blipFill>
          <a:blip r:embed="rId2"/>
          <a:srcRect l="0" t="0" r="0" b="23660"/>
          <a:stretch/>
        </p:blipFill>
        <p:spPr>
          <a:xfrm>
            <a:off x="152280" y="152280"/>
            <a:ext cx="3556080" cy="53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\\daisy\Desktop\cleverj\Film\Lesotho\images for ppt\ag_lots_of_materials.JPG"/>
          <p:cNvPicPr/>
          <p:nvPr/>
        </p:nvPicPr>
        <p:blipFill>
          <a:blip r:embed="rId3"/>
          <a:srcRect l="-7994" t="13035" r="0" b="0"/>
          <a:stretch/>
        </p:blipFill>
        <p:spPr>
          <a:xfrm>
            <a:off x="838080" y="6172200"/>
            <a:ext cx="822960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aisy\Desktop\cleverj\My Docs\KHGpptpics\khgmorijasoil.JPG"/>
          <p:cNvPicPr/>
          <p:nvPr/>
        </p:nvPicPr>
        <p:blipFill>
          <a:blip r:embed="rId1"/>
          <a:stretch/>
        </p:blipFill>
        <p:spPr>
          <a:xfrm>
            <a:off x="2666880" y="838080"/>
            <a:ext cx="3810240" cy="5079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9" name="Picture 3" descr="\\daisy\Desktop\cleverj\Film\Lesotho\images for ppt\ag_manure_nitrates.JPG"/>
          <p:cNvPicPr/>
          <p:nvPr/>
        </p:nvPicPr>
        <p:blipFill>
          <a:blip r:embed="rId2"/>
          <a:srcRect l="-4994" t="13917" r="0" b="0"/>
          <a:stretch/>
        </p:blipFill>
        <p:spPr>
          <a:xfrm>
            <a:off x="914400" y="6175440"/>
            <a:ext cx="8001000" cy="49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\\daisy\Desktop\cleverj\Film\Lesotho\images for ppt\what_you_need.jpg"/>
          <p:cNvPicPr/>
          <p:nvPr/>
        </p:nvPicPr>
        <p:blipFill>
          <a:blip r:embed="rId3"/>
          <a:srcRect l="0" t="0" r="0" b="23660"/>
          <a:stretch/>
        </p:blipFill>
        <p:spPr>
          <a:xfrm>
            <a:off x="152280" y="152280"/>
            <a:ext cx="355608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\\daisy\Desktop\cleverj\My Docs\KHGpptpics\khgmorijastraw.JPG"/>
          <p:cNvPicPr/>
          <p:nvPr/>
        </p:nvPicPr>
        <p:blipFill>
          <a:blip r:embed="rId1"/>
          <a:stretch/>
        </p:blipFill>
        <p:spPr>
          <a:xfrm>
            <a:off x="1397160" y="990720"/>
            <a:ext cx="6349680" cy="4762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93" name="Picture 3" descr="\\daisy\Desktop\cleverj\Film\Lesotho\images for ppt\ag_straw_moisture.JPG"/>
          <p:cNvPicPr/>
          <p:nvPr/>
        </p:nvPicPr>
        <p:blipFill>
          <a:blip r:embed="rId2"/>
          <a:srcRect l="-7994" t="21977" r="0" b="0"/>
          <a:stretch/>
        </p:blipFill>
        <p:spPr>
          <a:xfrm>
            <a:off x="838080" y="6221520"/>
            <a:ext cx="8229600" cy="446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\\daisy\Desktop\cleverj\Film\Lesotho\images for ppt\what_you_need.jpg"/>
          <p:cNvPicPr/>
          <p:nvPr/>
        </p:nvPicPr>
        <p:blipFill>
          <a:blip r:embed="rId3"/>
          <a:stretch/>
        </p:blipFill>
        <p:spPr>
          <a:xfrm>
            <a:off x="152280" y="152280"/>
            <a:ext cx="3556080" cy="69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\\daisy\Desktop\cleverj\Malfifi trans.gif"/>
          <p:cNvPicPr/>
          <p:nvPr/>
        </p:nvPicPr>
        <p:blipFill>
          <a:blip r:embed="rId4"/>
          <a:stretch/>
        </p:blipFill>
        <p:spPr>
          <a:xfrm>
            <a:off x="109440" y="5867280"/>
            <a:ext cx="6526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4:26:13Z</dcterms:created>
  <dc:creator>Abby</dc:creator>
  <dc:description/>
  <dc:language>en-US</dc:language>
  <cp:lastModifiedBy>Abby</cp:lastModifiedBy>
  <dcterms:modified xsi:type="dcterms:W3CDTF">2013-03-08T10:52:36Z</dcterms:modified>
  <cp:revision>4</cp:revision>
  <dc:subject/>
  <dc:title>PowerPoint Presentation</dc:title>
</cp:coreProperties>
</file>