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BE2-ADDC-4F66-84C9-9C06996B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287-675F-4130-9260-78E4599B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D71-C069-41F8-9FE3-6E0FCECA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422-7C1A-4ADD-BAFD-5450D37E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D27-66B7-4A70-A811-FC510329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28D-8848-4D6C-AF92-5C2AC6C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817-F595-4C43-A197-6D99461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A09-E1A7-4FC3-A1A0-2884BD88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E15-F1FC-4FBD-9538-4E6E3774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101-294D-4942-9A7E-4A77977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C10-816C-4E40-AC0C-6DF9C49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C57-8FB2-4FB8-AC73-4C824A2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F0FF-6E3E-4BB7-9615-0E74AC622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pTap_tit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42" name="TT_ug_1" descr=""/>
          <p:cNvPicPr/>
          <p:nvPr/>
        </p:nvPicPr>
        <p:blipFill>
          <a:blip r:embed="rId2"/>
          <a:stretch/>
        </p:blipFill>
        <p:spPr>
          <a:xfrm>
            <a:off x="6004080" y="2895480"/>
            <a:ext cx="2454120" cy="32767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T_ug" descr=""/>
          <p:cNvPicPr/>
          <p:nvPr/>
        </p:nvPicPr>
        <p:blipFill>
          <a:blip r:embed="rId1"/>
          <a:stretch/>
        </p:blipFill>
        <p:spPr>
          <a:xfrm>
            <a:off x="5079960" y="314280"/>
            <a:ext cx="3848040" cy="2886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44" name="TT_toilet" descr=""/>
          <p:cNvPicPr/>
          <p:nvPr/>
        </p:nvPicPr>
        <p:blipFill>
          <a:blip r:embed="rId2"/>
          <a:stretch/>
        </p:blipFill>
        <p:spPr>
          <a:xfrm>
            <a:off x="5030640" y="3657600"/>
            <a:ext cx="3846600" cy="2886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45" name="A_TT" descr=""/>
          <p:cNvPicPr/>
          <p:nvPr/>
        </p:nvPicPr>
        <p:blipFill>
          <a:blip r:embed="rId3"/>
          <a:stretch/>
        </p:blipFill>
        <p:spPr>
          <a:xfrm>
            <a:off x="380880" y="1028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T_ug_piv" descr=""/>
          <p:cNvPicPr/>
          <p:nvPr/>
        </p:nvPicPr>
        <p:blipFill>
          <a:blip r:embed="rId1"/>
          <a:stretch/>
        </p:blipFill>
        <p:spPr>
          <a:xfrm>
            <a:off x="5392800" y="1168560"/>
            <a:ext cx="3141720" cy="4190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47" name="Tip_taps_are" descr=""/>
          <p:cNvPicPr/>
          <p:nvPr/>
        </p:nvPicPr>
        <p:blipFill>
          <a:blip r:embed="rId2"/>
          <a:stretch/>
        </p:blipFill>
        <p:spPr>
          <a:xfrm>
            <a:off x="304920" y="9777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143000" y="3797280"/>
            <a:ext cx="2895480" cy="3060720"/>
            <a:chOff x="1143000" y="3797280"/>
            <a:chExt cx="2895480" cy="3060720"/>
          </a:xfrm>
        </p:grpSpPr>
        <p:sp>
          <p:nvSpPr>
            <p:cNvPr id="49" name=""/>
            <p:cNvSpPr/>
            <p:nvPr/>
          </p:nvSpPr>
          <p:spPr>
            <a:xfrm>
              <a:off x="1143000" y="3797280"/>
              <a:ext cx="2895480" cy="264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rcRect l="2503" t="2735" r="2550" b="1652"/>
            <a:stretch/>
          </p:blipFill>
          <p:spPr>
            <a:xfrm>
              <a:off x="1143000" y="4191120"/>
              <a:ext cx="289548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TT_are_simple" descr=""/>
          <p:cNvPicPr/>
          <p:nvPr/>
        </p:nvPicPr>
        <p:blipFill>
          <a:blip r:embed="rId2"/>
          <a:srcRect l="0" t="0" r="3706" b="37039"/>
          <a:stretch/>
        </p:blipFill>
        <p:spPr>
          <a:xfrm>
            <a:off x="380880" y="1041480"/>
            <a:ext cx="396252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waterwasher1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800600" y="1143000"/>
            <a:ext cx="4114800" cy="30844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T_ug3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314172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54" name="TT_ug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952880" y="1143000"/>
            <a:ext cx="314172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p%20taps%20021" descr=""/>
          <p:cNvPicPr/>
          <p:nvPr/>
        </p:nvPicPr>
        <p:blipFill>
          <a:blip r:embed="rId1">
            <a:lum bright="-6000"/>
          </a:blip>
          <a:srcRect l="0" t="0" r="0" b="11291"/>
          <a:stretch/>
        </p:blipFill>
        <p:spPr>
          <a:xfrm>
            <a:off x="4952880" y="2209680"/>
            <a:ext cx="314964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56" name="Tip%20taps%20027" descr=""/>
          <p:cNvPicPr/>
          <p:nvPr/>
        </p:nvPicPr>
        <p:blipFill>
          <a:blip r:embed="rId2"/>
          <a:srcRect l="0" t="0" r="0" b="11291"/>
          <a:stretch/>
        </p:blipFill>
        <p:spPr>
          <a:xfrm>
            <a:off x="4952880" y="2209680"/>
            <a:ext cx="314964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57" name="TT_they_are" descr=""/>
          <p:cNvPicPr/>
          <p:nvPr/>
        </p:nvPicPr>
        <p:blipFill>
          <a:blip r:embed="rId3"/>
          <a:stretch/>
        </p:blipFill>
        <p:spPr>
          <a:xfrm>
            <a:off x="380880" y="1028880"/>
            <a:ext cx="3657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59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60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ag_logo_black" descr=""/>
            <p:cNvPicPr/>
            <p:nvPr/>
          </p:nvPicPr>
          <p:blipFill>
            <a:blip r:embed="rId4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TT_here" descr=""/>
          <p:cNvPicPr/>
          <p:nvPr/>
        </p:nvPicPr>
        <p:blipFill>
          <a:blip r:embed="rId5"/>
          <a:stretch/>
        </p:blipFill>
        <p:spPr>
          <a:xfrm>
            <a:off x="457200" y="5600880"/>
            <a:ext cx="4000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SC0227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9800" y="1155600"/>
            <a:ext cx="4192560" cy="3143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65" name="Tip%20taps%20014" descr=""/>
          <p:cNvPicPr/>
          <p:nvPr/>
        </p:nvPicPr>
        <p:blipFill>
          <a:blip r:embed="rId2"/>
          <a:srcRect l="0" t="0" r="0" b="9394"/>
          <a:stretch/>
        </p:blipFill>
        <p:spPr>
          <a:xfrm>
            <a:off x="5334120" y="2286000"/>
            <a:ext cx="3141720" cy="42670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grpSp>
        <p:nvGrpSpPr>
          <p:cNvPr id="66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67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68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0" name="ag_logo_black" descr=""/>
            <p:cNvPicPr/>
            <p:nvPr/>
          </p:nvPicPr>
          <p:blipFill>
            <a:blip r:embed="rId3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TT_here" descr=""/>
          <p:cNvPicPr/>
          <p:nvPr/>
        </p:nvPicPr>
        <p:blipFill>
          <a:blip r:embed="rId4"/>
          <a:stretch/>
        </p:blipFill>
        <p:spPr>
          <a:xfrm>
            <a:off x="457200" y="5600880"/>
            <a:ext cx="4000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pTap_title_mi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4038480" y="4267080"/>
            <a:ext cx="4876560" cy="2590920"/>
            <a:chOff x="4038480" y="4267080"/>
            <a:chExt cx="4876560" cy="259092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4267080"/>
              <a:ext cx="4876560" cy="2590920"/>
              <a:chOff x="4038480" y="4267080"/>
              <a:chExt cx="4876560" cy="2590920"/>
            </a:xfrm>
          </p:grpSpPr>
          <p:sp>
            <p:nvSpPr>
              <p:cNvPr id="75" name=""/>
              <p:cNvSpPr/>
              <p:nvPr/>
            </p:nvSpPr>
            <p:spPr>
              <a:xfrm>
                <a:off x="4038480" y="4267080"/>
                <a:ext cx="4876560" cy="2590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038480" y="6392880"/>
                <a:ext cx="4876560" cy="46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2"/>
            <a:srcRect l="0" t="0" r="0" b="1698"/>
            <a:stretch/>
          </p:blipFill>
          <p:spPr>
            <a:xfrm>
              <a:off x="4114800" y="4495680"/>
              <a:ext cx="280980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rcRect l="0" t="4611" r="0" b="0"/>
            <a:stretch/>
          </p:blipFill>
          <p:spPr>
            <a:xfrm>
              <a:off x="6845400" y="4470480"/>
              <a:ext cx="1981080" cy="23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pTap_title_pla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1:41:12Z</dcterms:created>
  <dc:creator> </dc:creator>
  <dc:description/>
  <dc:language>en-US</dc:language>
  <cp:lastModifiedBy> </cp:lastModifiedBy>
  <dcterms:modified xsi:type="dcterms:W3CDTF">2008-01-31T14:24:09Z</dcterms:modified>
  <cp:revision>6</cp:revision>
  <dc:subject/>
  <dc:title>PowerPoint Presentation</dc:title>
</cp:coreProperties>
</file>